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285645"/>
        <c:axId val="64287992"/>
      </c:barChart>
      <c:catAx>
        <c:axId val="532856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287992"/>
        <c:crosses val="autoZero"/>
        <c:auto val="1"/>
        <c:lblAlgn val="ctr"/>
        <c:lblOffset val="100"/>
        <c:noMultiLvlLbl val="0"/>
      </c:catAx>
      <c:valAx>
        <c:axId val="642879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2856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5CFE-1F72-4D51-A432-4C0C3BC3B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9D8B-7AC3-4A88-AAD5-4F5B42D1C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0C10-D75F-48D0-8E35-F20961107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BF71-F61C-427A-9E55-3ACA11B09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4E54-C516-4A1A-9304-90DA96956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2CDE-7443-401A-B734-430B952CB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AAA0-D92B-4A4B-89EE-C95BA190C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C31F-DFEA-4732-80A7-085F36C65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7935-764C-49FC-92A3-E07274F90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2F42-3D4F-4EB4-9B5E-AAE92794E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9600-B6DA-463E-9729-ED01E9AE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8D66-3C58-4518-8B41-215725A4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FC6CBC-7062-4041-9F32-2B1ACBF65E0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