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009738"/>
        <c:axId val="99165160"/>
      </c:barChart>
      <c:catAx>
        <c:axId val="220097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165160"/>
        <c:crosses val="autoZero"/>
        <c:auto val="1"/>
        <c:lblAlgn val="ctr"/>
        <c:lblOffset val="100"/>
        <c:noMultiLvlLbl val="0"/>
      </c:catAx>
      <c:valAx>
        <c:axId val="991651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0097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C0D1-2D8B-470F-80E7-FA8B2CC6D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02BA-210F-4236-BF37-6CBBBFB1D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51AC-5FB7-42F7-BE62-9019703EF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9DAF-A0E5-4B71-BA3B-F58DC8CA0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E3B7-19BC-45B8-A6F7-4EB32665C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831A-1CFD-4F9E-B862-42E9F24D4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9F61-3B28-4DFA-BD12-A73334A87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926E-BBBD-4AA7-888A-858DE17EB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80B1-FFF8-453D-84A7-410735854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7E44-6807-4323-BBC7-7ED8F7F1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037E-0EC3-4A5F-921D-64AA09A3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1A4B-09B7-4909-9B46-96A2FCE5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1D68AD-1F7E-44A4-BC60-FE32BED8D05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